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F39D-8FD6-4A24-82C4-099848395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8E0E-F438-4199-9540-35C8B38FA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D95F-E9FA-401D-933C-B516A8301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62E4-55C6-4F04-B9F0-8516E1ADC7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7D47-0389-4D90-9DA4-72474F9D1F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518E-D669-4418-A9CD-0CE3BEE40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4743-05AB-4EA2-B77B-229E9B3FE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FAAA-D9FB-47F2-8E5D-B50FFE954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3EDB-8B56-431A-AF43-F2FD81488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FF40-5211-4A64-A193-D8438B94F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8E26-B3A3-48D8-AD15-F77F7C564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C274-5C3C-4BE4-BABF-526CB550B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D565-BA4E-49FC-A1B7-5A7EE019C0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1294-3FA1-4323-830D-1C74B072B8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back to your scary fraction 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help this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489D-FA77-4EC6-A3B6-E3102F697C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lope and Fraction Mea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view the Pancake Probl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fraction meanings do you see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they connect to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78CD-5C17-45A6-ACE0-96D14F55A2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 and Predic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secondary students respond to the following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1F72-BED5-4CFA-ABCF-4FCEBB866A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On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 an assignment, Jaime received the following scores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ction A:          Section B:         Total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aime was confused, because using what she knew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actions, she didn’t think that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would you explain this to Jaime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2E21-C74E-4666-AB38-2D81465D2D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2133720" y="2362320"/>
                <a:ext cx="253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4419720" y="2362320"/>
                <a:ext cx="2538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5867280" y="2362320"/>
                <a:ext cx="4194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7"/>
              <p:cNvSpPr txBox="1"/>
              <p:nvPr/>
            </p:nvSpPr>
            <p:spPr>
              <a:xfrm>
                <a:off x="4876920" y="3809880"/>
                <a:ext cx="15494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wo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what you know about 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fferent representations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5EFB-CD4B-4DF8-BAEB-E2C3BA814A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5715000" y="1447920"/>
                <a:ext cx="482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7327800" y="1523880"/>
                <a:ext cx="4572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hre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e a real life example of a problem where the solution could involve dividing by 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A7B0-ACE8-4668-8EAC-83340493C5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our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know about          ?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agrams, numbers, algebra, words etc.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B3E4-574D-465C-AAB1-53D9217449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5181480" y="1523880"/>
                <a:ext cx="723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iv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sentence that  makes sense that includes ALL of  these words and numbers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per, fraction, simple, challenging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DC5C-322E-4EB0-98DA-454B3ED575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have you noticed /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r lingering 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4D85-7D9C-4BDC-9C7F-908716B17E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resentations and meaning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ons to secondary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lated Gap Clos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0BA6-DFF7-4C54-9669-7C8D6A1900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1197-EE77-4A69-B1C9-2EC4EB9BBD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cary Stor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a story from your personal teaching experience involving student misconceptions abou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ner/Outer Circle – share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EA5A-A2B8-4A95-A49A-6107C4BBE0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eanings and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dividuall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fraction, and represent it in as many different ways as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wo problems from secondary math that feature THAT fra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E9D8-2C47-4A41-8E3D-E59DE200AE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two people with the same fraction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meanings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o curriculum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D29B-60B8-46A8-9936-B7C971DA69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ing GAP Clos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Gap Clos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raction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) Comp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) Adding and Subtract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) Multiply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) Divid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roportional Reasoning: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5) Describing and Representing Ratios, Rates and Perc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6) Equivalent Forms of Ratios, Rates and Per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5BD0-2F97-4EDD-A56C-2437721740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, Discuss, Summariz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(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agnostic (Relevant ques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ventions (Open Question, Parallel Ta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ummary sheet (chart paper) of key ideas / tips for secondary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D023-4095-4271-8414-FCEA936A9D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ing our Insi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ig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llery walk – 5 minutes /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** insert timer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F8FD-7D8A-45B7-A74E-BDA31C05FA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16T16:34:38Z</dcterms:modified>
  <cp:revision>28</cp:revision>
  <dc:subject/>
  <dc:title>&lt;Title&gt;</dc:title>
</cp:coreProperties>
</file>